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CFB2-98F0-46D0-864E-F4F4A20AE8F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display the text on these 4 slides, you can control the speed learners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D312-7959-4ED9-90D3-1FA0ABBFA3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read and comment on each others’ sentences – the accuracy of grammar and whether they agre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919A-0087-40F6-89C3-5A6C4ACFD72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ructure: “the more … the more…” is called the “comparative correlative” .. but learners don’t need to know that! Do / elicit some examples from the purple words first, then get them playing with the phrases to create different sentences and check they understand by asking if they agree with the sentence.</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8E58-3F76-4ACF-BFD2-05ACA2963F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key:   a) 3  b) 4  c) 1  d) 2  e) 5  f) 6</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B8BD-1509-49AB-BB1F-22DD44BB156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ill the sentences and mark the utterance stres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ED03-5E9D-4482-B02A-D5072B1020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ccess the article on-line, or read from the following 4 slides, or you can print out the text for them to read.  Key: a and c are true.</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D8BD-A6B6-4FFB-B431-46227F91922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0F77D-52FB-44A7-BD86-F887C5C39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EA81-5E72-4C7C-8954-2B5BEE2B5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90632-7B8B-4E74-A1BE-356FD23A5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5EACF-07EA-4882-B7BA-68681D6FE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05FCE-94CA-4493-85D7-494F30A2B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39AC6-FB34-4759-BAFE-81E99C6C7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5C6E9-61E4-472D-A5EA-ABA6F2389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4FFA1-3D01-4D76-B700-CA6660349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CE67B-F24C-4ABF-A57D-39038B4F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69D8F-2D09-4287-A110-B6D21AF93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12B32-740E-4E2E-9712-C35A4B3B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18F36-4C14-4932-A097-6A97F4FAA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8CBE-6574-47B6-BA43-5C554EB12C9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610704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The more money we have …</a:t>
            </a:r>
            <a:endParaRPr b="0" lang="en-US" sz="6600" spc="-1" strike="noStrike">
              <a:solidFill>
                <a:srgbClr val="000000"/>
              </a:solidFill>
              <a:latin typeface="Calibri"/>
            </a:endParaRPr>
          </a:p>
        </p:txBody>
      </p:sp>
      <p:sp>
        <p:nvSpPr>
          <p:cNvPr id="49" name="PlaceHolder 2"/>
          <p:cNvSpPr>
            <a:spLocks noGrp="1"/>
          </p:cNvSpPr>
          <p:nvPr>
            <p:ph type="subTitle"/>
          </p:nvPr>
        </p:nvSpPr>
        <p:spPr>
          <a:xfrm>
            <a:off x="539640" y="4652640"/>
            <a:ext cx="6253200" cy="1584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NEW INTERNATIONALIST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EASIER ENGLISH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INTERMEDIATE READY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3348000" y="404640"/>
            <a:ext cx="5578560" cy="1408320"/>
          </a:xfrm>
          <a:prstGeom prst="rect">
            <a:avLst/>
          </a:prstGeom>
          <a:ln w="0">
            <a:noFill/>
          </a:ln>
        </p:spPr>
      </p:pic>
      <p:pic>
        <p:nvPicPr>
          <p:cNvPr id="51" name="Picture 5" descr=""/>
          <p:cNvPicPr/>
          <p:nvPr/>
        </p:nvPicPr>
        <p:blipFill>
          <a:blip r:embed="rId2"/>
          <a:stretch/>
        </p:blipFill>
        <p:spPr>
          <a:xfrm>
            <a:off x="366840" y="189000"/>
            <a:ext cx="2108160" cy="1623960"/>
          </a:xfrm>
          <a:prstGeom prst="rect">
            <a:avLst/>
          </a:prstGeom>
          <a:ln w="0">
            <a:noFill/>
          </a:ln>
        </p:spPr>
      </p:pic>
      <p:pic>
        <p:nvPicPr>
          <p:cNvPr id="52" name="Picture 6" descr=""/>
          <p:cNvPicPr/>
          <p:nvPr/>
        </p:nvPicPr>
        <p:blipFill>
          <a:blip r:embed="rId3"/>
          <a:stretch/>
        </p:blipFill>
        <p:spPr>
          <a:xfrm>
            <a:off x="6410160" y="3645000"/>
            <a:ext cx="24958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money bring happiness?</a:t>
            </a:r>
            <a:endParaRPr b="0" lang="en-US" sz="4400" spc="-1" strike="noStrike">
              <a:solidFill>
                <a:srgbClr val="000000"/>
              </a:solidFill>
              <a:latin typeface="Calibri"/>
            </a:endParaRPr>
          </a:p>
        </p:txBody>
      </p:sp>
      <p:sp>
        <p:nvSpPr>
          <p:cNvPr id="74" name=""/>
          <p:cNvSpPr txBox="1"/>
          <p:nvPr/>
        </p:nvSpPr>
        <p:spPr>
          <a:xfrm>
            <a:off x="179280" y="907920"/>
            <a:ext cx="8856720" cy="5834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economy stops growing, this doesn’t have to mean we will not be happy. We need to share the money more equally and think again about what happiness i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ood news is that happiness does not directly depend on how much money you have . Many surveys in the last twenty or thirty years show this: when we get enough money to live on, with enough money to not be poor, then more money doesn’t mean more happiness too. Happiness can go down when income goes up.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because we expect more when we have more money: the more we earn, the more we want; and it is more difficult to feel satisfied. And when we try to keep the level of money we are then used to, we get more stress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people study the relationship between income and happiness, or money and happiness, they find that they are not really related. But income equality (when there is less difference between the richest and the poorest in a country) is related to happines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179280" y="259920"/>
            <a:ext cx="8785440" cy="648180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 of the poorest countries have some of the happiest people. But only if the money is shared quite fairly. Of course there are other things we need to think about, eg. climate and culture and the way people answer questions like this. But the important point in this study is that less money doesn’t have to mean less happiness. And if less income comes together with more equality, it could bring more happines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ost important thing is to see how life relates to what people expect. We expect more as we get more money, often more than we can buy. When we have enough for basic needs, more money makes us want more, and what we want is often unrealistic; so we are less satisfied. Also, maybe, the type of people who want more are also the type of people who find it more difficult to be satisfi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we get more money, we also get more worried about our place in society. We compare ourselves to other people, and of course there is always someone near us who seems to have a better life than us; ‘the grass is always greener on the other side of the fence’. We don’t like it when rich people show all their money – this makes us think about how unfair life can b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8" name=""/>
          <p:cNvSpPr txBox="1"/>
          <p:nvPr/>
        </p:nvSpPr>
        <p:spPr>
          <a:xfrm>
            <a:off x="179280" y="404640"/>
            <a:ext cx="8785440" cy="63374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we shouldn’t be jealous – they are probably not satisfied with their own lives anyway. The Stoic philosophers of ancient Greece and Rome understood that it is useless to worry about all the parts of life that we cannot control. It’s better to follow the advice of Seneca: If you are not satisfied with what you have, then, even if you have a lot more, you will never be happy. Or better, Epictetus, who said that the best way to be happy is to make your expectations lower and lower until they are the same as reality.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is not easy to see what is the cause and what is the effect with something like as happiness. But it seems that equality is much more important than money alone. Prosperity is linked to other things as well as money; health, relationships, environment, work – it is not surprising that unemployment is one of the biggest causes of unhappines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0" name=""/>
          <p:cNvSpPr txBox="1"/>
          <p:nvPr/>
        </p:nvSpPr>
        <p:spPr>
          <a:xfrm>
            <a:off x="108000" y="189000"/>
            <a:ext cx="8856720" cy="64087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good thing about changing what we understand by ‘prosperity’ is that when we accept that growth is not what we want now (we need the opposite - to buy and use less resources), all the arguments against things like higher taxes and more regulation of finance (eg. that we will have less business because businesspeople won’t have so much motivation to get money etc.) do not work anymore. The big challenge now is how to improve our living standards in other ways – not just to buy more and use more resources (and warm the world and maybe end the human race). </a:t>
            </a:r>
            <a:endParaRPr b="0" lang="en-US" sz="3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 will still need to get people to invest in real industry, and also to encourage people to develop technology to find solutions to problems. But we shouldn’t have to rely on motivation of greed. </a:t>
            </a:r>
            <a:r>
              <a:rPr b="0" lang="en-GB" sz="1900" spc="-1" strike="noStrike">
                <a:solidFill>
                  <a:srgbClr val="000000"/>
                </a:solidFill>
                <a:latin typeface="Calibri"/>
              </a:rPr>
              <a:t>http://eewiki.newint.org/index.php/Even_in_difficult_times,_we_can_still_be_happy...</a:t>
            </a:r>
            <a:endParaRPr b="0" lang="en-US" sz="19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ow read it again, and, in pairs complete these sentenc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The more money we ge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 The lower your expectations ar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 The more equal a society i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The more a country develop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The more tax we pay, …</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llect the best “the + comparative” sentences from the class and make a poster to make people think</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5292720" y="3933720"/>
            <a:ext cx="367344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18720"/>
            <a:ext cx="8229600" cy="13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c00000"/>
                </a:solidFill>
                <a:latin typeface="Calibri"/>
              </a:rPr>
              <a:t>Homework:</a:t>
            </a:r>
            <a:endParaRPr b="0" lang="en-US" sz="88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 the original – more difficult – article and learn some new vocabulary and struc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4/12/01/difficult-times-still-be-happy/</a:t>
            </a:r>
            <a:endParaRPr b="0" lang="en-US" sz="3200" spc="-1" strike="noStrike">
              <a:solidFill>
                <a:srgbClr val="000000"/>
              </a:solidFill>
              <a:latin typeface="Calibri"/>
            </a:endParaRPr>
          </a:p>
        </p:txBody>
      </p:sp>
      <p:pic>
        <p:nvPicPr>
          <p:cNvPr id="88" name="Picture 3" descr=""/>
          <p:cNvPicPr/>
          <p:nvPr/>
        </p:nvPicPr>
        <p:blipFill>
          <a:blip r:embed="rId1"/>
          <a:stretch/>
        </p:blipFill>
        <p:spPr>
          <a:xfrm>
            <a:off x="4487760" y="3370320"/>
            <a:ext cx="4187880" cy="32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This lesson:</a:t>
            </a:r>
            <a:endParaRPr b="0" lang="en-US" sz="8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1/ Grammar</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2/ Speaking: about ideas and graphs</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f0"/>
                </a:solidFill>
                <a:latin typeface="Calibri"/>
              </a:rPr>
              <a:t>3/ Reading: for gist and detail</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Calibri"/>
              </a:rPr>
              <a:t>4/ Writing: make a post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sentences from the purple words to mean the same as the 3 red sentences. </a:t>
            </a:r>
            <a:endParaRPr b="0" lang="en-US" sz="3200" spc="-1" strike="noStrike">
              <a:solidFill>
                <a:srgbClr val="000000"/>
              </a:solidFill>
              <a:latin typeface="Calibri"/>
            </a:endParaRPr>
          </a:p>
        </p:txBody>
      </p:sp>
      <p:sp>
        <p:nvSpPr>
          <p:cNvPr id="56" name=""/>
          <p:cNvSpPr txBox="1"/>
          <p:nvPr/>
        </p:nvSpPr>
        <p:spPr>
          <a:xfrm>
            <a:off x="323640" y="1484280"/>
            <a:ext cx="4895640" cy="51134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a/ If we get richer, we are happier.</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b/ If we don’t have so much money,  we won’t be so happy.</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c/ If we have less money, we are happier.</a:t>
            </a:r>
            <a:endParaRPr b="0" lang="en-US" sz="4000" spc="-1" strike="noStrike">
              <a:solidFill>
                <a:srgbClr val="000000"/>
              </a:solidFill>
              <a:latin typeface="Calibri"/>
            </a:endParaRPr>
          </a:p>
        </p:txBody>
      </p:sp>
      <p:sp>
        <p:nvSpPr>
          <p:cNvPr id="57" name=""/>
          <p:cNvSpPr txBox="1"/>
          <p:nvPr/>
        </p:nvSpPr>
        <p:spPr>
          <a:xfrm>
            <a:off x="5292720" y="1628280"/>
            <a:ext cx="3672000" cy="496908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poorer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happi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more mone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feel     we ha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rich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are         we ge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sadd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atch:</a:t>
            </a:r>
            <a:endParaRPr b="0" lang="en-US" sz="4400" spc="-1" strike="noStrike">
              <a:solidFill>
                <a:srgbClr val="000000"/>
              </a:solidFill>
              <a:latin typeface="Calibri"/>
            </a:endParaRPr>
          </a:p>
        </p:txBody>
      </p:sp>
      <p:sp>
        <p:nvSpPr>
          <p:cNvPr id="59" name=""/>
          <p:cNvSpPr txBox="1"/>
          <p:nvPr/>
        </p:nvSpPr>
        <p:spPr>
          <a:xfrm>
            <a:off x="250920" y="1600200"/>
            <a:ext cx="4176720" cy="4997520"/>
          </a:xfrm>
          <a:prstGeom prst="rect">
            <a:avLst/>
          </a:prstGeom>
          <a:noFill/>
          <a:ln w="0">
            <a:noFill/>
          </a:ln>
        </p:spPr>
        <p:txBody>
          <a:bodyPr anchor="t">
            <a:normAutofit/>
          </a:bodyPr>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money we hav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equal a country is,</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poorer we becom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we read,</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less we work,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richer we get,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
          <p:cNvSpPr txBox="1"/>
          <p:nvPr/>
        </p:nvSpPr>
        <p:spPr>
          <a:xfrm>
            <a:off x="4648320" y="620280"/>
            <a:ext cx="43164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the more we are afrai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he more intelligent we beco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the more stressed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he happier everyone 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he more spare time we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the more we w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s the grammar?</a:t>
            </a:r>
            <a:endParaRPr b="0" lang="en-US" sz="4400" spc="-1" strike="noStrike">
              <a:solidFill>
                <a:srgbClr val="000000"/>
              </a:solidFill>
              <a:latin typeface="Calibri"/>
            </a:endParaRPr>
          </a:p>
        </p:txBody>
      </p:sp>
      <p:sp>
        <p:nvSpPr>
          <p:cNvPr id="62" name=""/>
          <p:cNvSpPr txBox="1"/>
          <p:nvPr/>
        </p:nvSpPr>
        <p:spPr>
          <a:xfrm>
            <a:off x="250560" y="1600200"/>
            <a:ext cx="8785080" cy="4525920"/>
          </a:xfrm>
          <a:prstGeom prst="rect">
            <a:avLst/>
          </a:prstGeom>
          <a:noFill/>
          <a:ln w="0">
            <a:noFill/>
          </a:ln>
        </p:spPr>
        <p:txBody>
          <a:bodyPr anchor="t">
            <a:normAutofit fontScale="97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               </a:t>
            </a: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prettier</a:t>
            </a:r>
            <a:r>
              <a:rPr b="1" lang="en-GB" sz="3200" spc="-1" strike="noStrike">
                <a:solidFill>
                  <a:srgbClr val="000000"/>
                </a:solidFill>
                <a:latin typeface="Calibri"/>
              </a:rPr>
              <a:t> </a:t>
            </a:r>
            <a:r>
              <a:rPr b="1" lang="en-GB" sz="3200" spc="-1" strike="noStrike">
                <a:solidFill>
                  <a:srgbClr val="00b050"/>
                </a:solidFill>
                <a:latin typeface="Calibri"/>
              </a:rPr>
              <a:t>she l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shyer</a:t>
            </a:r>
            <a:r>
              <a:rPr b="1" lang="en-GB" sz="3200" spc="-1" strike="noStrike">
                <a:solidFill>
                  <a:srgbClr val="000000"/>
                </a:solidFill>
                <a:latin typeface="Calibri"/>
              </a:rPr>
              <a:t> </a:t>
            </a:r>
            <a:r>
              <a:rPr b="1" lang="en-GB" sz="3200" spc="-1" strike="noStrike">
                <a:solidFill>
                  <a:srgbClr val="00b050"/>
                </a:solidFill>
                <a:latin typeface="Calibri"/>
              </a:rPr>
              <a:t>she become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read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understand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better</a:t>
            </a:r>
            <a:r>
              <a:rPr b="1" lang="en-GB" sz="3200" spc="-1" strike="noStrike">
                <a:solidFill>
                  <a:srgbClr val="000000"/>
                </a:solidFill>
                <a:latin typeface="Calibri"/>
              </a:rPr>
              <a:t> </a:t>
            </a:r>
            <a:r>
              <a:rPr b="1" lang="en-GB" sz="3200" spc="-1" strike="noStrike">
                <a:solidFill>
                  <a:srgbClr val="00b050"/>
                </a:solidFill>
                <a:latin typeface="Calibri"/>
              </a:rPr>
              <a:t>she c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everyone eat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spend</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have to earn</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taller</a:t>
            </a:r>
            <a:r>
              <a:rPr b="1" lang="en-GB" sz="3200" spc="-1" strike="noStrike">
                <a:solidFill>
                  <a:srgbClr val="000000"/>
                </a:solidFill>
                <a:latin typeface="Calibri"/>
              </a:rPr>
              <a:t> </a:t>
            </a:r>
            <a:r>
              <a:rPr b="1" lang="en-GB" sz="3200" spc="-1" strike="noStrike">
                <a:solidFill>
                  <a:srgbClr val="00b050"/>
                </a:solidFill>
                <a:latin typeface="Calibri"/>
              </a:rPr>
              <a:t>she get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faster</a:t>
            </a:r>
            <a:r>
              <a:rPr b="1" lang="en-GB" sz="3200" spc="-1" strike="noStrike">
                <a:solidFill>
                  <a:srgbClr val="000000"/>
                </a:solidFill>
                <a:latin typeface="Calibri"/>
              </a:rPr>
              <a:t> </a:t>
            </a:r>
            <a:r>
              <a:rPr b="1" lang="en-GB" sz="3200" spc="-1" strike="noStrike">
                <a:solidFill>
                  <a:srgbClr val="00b050"/>
                </a:solidFill>
                <a:latin typeface="Calibri"/>
              </a:rPr>
              <a:t>she run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ich do you agree with, and why?</a:t>
            </a:r>
            <a:endParaRPr b="0" lang="en-US" sz="4400" spc="-1" strike="noStrike">
              <a:solidFill>
                <a:srgbClr val="000000"/>
              </a:solidFill>
              <a:latin typeface="Calibri"/>
            </a:endParaRPr>
          </a:p>
        </p:txBody>
      </p:sp>
      <p:sp>
        <p:nvSpPr>
          <p:cNvPr id="64" name=""/>
          <p:cNvSpPr txBox="1"/>
          <p:nvPr/>
        </p:nvSpPr>
        <p:spPr>
          <a:xfrm>
            <a:off x="108000" y="1599840"/>
            <a:ext cx="8928000" cy="5141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The taller you are, the more friends you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The more you read, the more intelligent you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The more we study, the better job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The richer people get, the more stressed they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he better we cook, the more we e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 The more you earn, the more you spe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8/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6" name="Content Placeholder 6" descr=""/>
          <p:cNvPicPr/>
          <p:nvPr/>
        </p:nvPicPr>
        <p:blipFill>
          <a:blip r:embed="rId1"/>
          <a:stretch/>
        </p:blipFill>
        <p:spPr>
          <a:xfrm>
            <a:off x="1116000" y="1200240"/>
            <a:ext cx="7192800" cy="55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5445000"/>
            <a:ext cx="7056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8" name="Content Placeholder 3" descr=""/>
          <p:cNvPicPr/>
          <p:nvPr/>
        </p:nvPicPr>
        <p:blipFill>
          <a:blip r:embed="rId1"/>
          <a:srcRect l="0" t="1319" r="0" b="1319"/>
          <a:stretch/>
        </p:blipFill>
        <p:spPr>
          <a:xfrm>
            <a:off x="458640" y="-387360"/>
            <a:ext cx="8064720" cy="6048360"/>
          </a:xfrm>
          <a:prstGeom prst="rect">
            <a:avLst/>
          </a:prstGeom>
          <a:ln w="0">
            <a:noFill/>
          </a:ln>
        </p:spPr>
      </p:pic>
      <p:sp>
        <p:nvSpPr>
          <p:cNvPr id="69" name="PlaceHolder 2"/>
          <p:cNvSpPr>
            <a:spLocks noGrp="1"/>
          </p:cNvSpPr>
          <p:nvPr>
            <p:ph/>
          </p:nvPr>
        </p:nvSpPr>
        <p:spPr>
          <a:xfrm>
            <a:off x="1792440" y="6381360"/>
            <a:ext cx="5486400" cy="14292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84358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a:t>
            </a:r>
            <a:r>
              <a:rPr b="0" lang="en-GB" sz="1800" spc="-1" strike="noStrike">
                <a:solidFill>
                  <a:srgbClr val="000000"/>
                </a:solidFill>
                <a:latin typeface="Calibri"/>
              </a:rPr>
              <a:t>http://eewiki.newint.org/index.php/Even_in_difficult_times,_we_can_still_be_happy...</a:t>
            </a:r>
            <a:br>
              <a:rPr sz="1800"/>
            </a:br>
            <a:br>
              <a:rPr sz="1800"/>
            </a:br>
            <a:endParaRPr b="0" lang="en-US" sz="1800" spc="-1" strike="noStrike">
              <a:solidFill>
                <a:srgbClr val="000000"/>
              </a:solidFill>
              <a:latin typeface="Calibri"/>
            </a:endParaRPr>
          </a:p>
        </p:txBody>
      </p:sp>
      <p:sp>
        <p:nvSpPr>
          <p:cNvPr id="71" name=""/>
          <p:cNvSpPr txBox="1"/>
          <p:nvPr/>
        </p:nvSpPr>
        <p:spPr>
          <a:xfrm>
            <a:off x="457200" y="256500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find out if these sentences are tru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 more money you earn, the more money you w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236000" y="1700280"/>
            <a:ext cx="1660320" cy="110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18:11:35Z</dcterms:created>
  <dc:creator>Linda Ruas</dc:creator>
  <dc:description/>
  <dc:language>en-US</dc:language>
  <cp:lastModifiedBy>Linda Ruas</cp:lastModifiedBy>
  <dcterms:modified xsi:type="dcterms:W3CDTF">2014-12-29T18:29:56Z</dcterms:modified>
  <cp:revision>18</cp:revision>
  <dc:subject/>
  <dc:title>PowerPoint Presentation</dc:title>
</cp:coreProperties>
</file>